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B17A-800F-4A81-9CF8-9280AF53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14B0-B5CE-4058-ADC2-81AFAF2A3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B546-74BC-414A-80B6-33C659CE1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1D9-3F0E-4790-87F0-01F0B944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62D-46AA-49C2-A3A1-3D8BAB63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FC-7CB2-4875-9F62-37DAA476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79D-AA06-4233-A17C-4F983DF7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ADE-7A5B-49B9-B104-243BD13C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AAD-967B-4F6D-A43E-AD2346EE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379-52E0-4E4C-9E49-EB6E4C4A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B25-3369-40E1-9429-64B57FBC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FA8-FB68-4D7E-9FC4-FC95A474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186-8347-40E6-A6EA-A91CEF5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767-DB52-4465-8629-44A246B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0FA-F2E3-4448-9F04-A5C74BBB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1B6-4761-41F0-8264-CFF0C946C0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6 Multiplying a Polynomial by a Monom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with one term is called a monomial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ltiply the term outside the parentheses by every term inside the parenthe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3712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27432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(a + b –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2895480" y="2743200"/>
            <a:ext cx="1752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895480" y="43434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2a + 2b + 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895480" y="54100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2a + 2b </a:t>
            </a:r>
            <a:r>
              <a:rPr b="0" lang="en-US" sz="3200" spc="-1" strike="noStrike">
                <a:solidFill>
                  <a:srgbClr val="80008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609480" y="1905120"/>
            <a:ext cx="4800600" cy="1003320"/>
            <a:chOff x="609480" y="1905120"/>
            <a:chExt cx="4800600" cy="1003320"/>
          </a:xfrm>
        </p:grpSpPr>
        <p:sp>
          <p:nvSpPr>
            <p:cNvPr id="58" name="Freeform 12"/>
            <p:cNvSpPr/>
            <p:nvPr/>
          </p:nvSpPr>
          <p:spPr>
            <a:xfrm>
              <a:off x="609480" y="2337120"/>
              <a:ext cx="1219320" cy="49536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1219320" y="1905120"/>
              <a:ext cx="4190760" cy="100332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914400" y="2209680"/>
            <a:ext cx="2971800" cy="711360"/>
            <a:chOff x="914400" y="2209680"/>
            <a:chExt cx="2971800" cy="711360"/>
          </a:xfrm>
        </p:grpSpPr>
        <p:sp>
          <p:nvSpPr>
            <p:cNvPr id="61" name="Freeform 16"/>
            <p:cNvSpPr/>
            <p:nvPr/>
          </p:nvSpPr>
          <p:spPr>
            <a:xfrm>
              <a:off x="914400" y="2514600"/>
              <a:ext cx="469800" cy="393840"/>
            </a:xfrm>
            <a:prstGeom prst="pie">
              <a:avLst/>
            </a:prstGeom>
            <a:noFill/>
            <a:ln w="19080">
              <a:solidFill>
                <a:srgbClr val="ff00ff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295280" y="2209680"/>
              <a:ext cx="2590920" cy="711360"/>
            </a:xfrm>
            <a:prstGeom prst="pie">
              <a:avLst/>
            </a:prstGeom>
            <a:noFill/>
            <a:ln w="19080">
              <a:solidFill>
                <a:srgbClr val="ff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6"/>
          <p:cNvGrpSpPr/>
          <p:nvPr/>
        </p:nvGrpSpPr>
        <p:grpSpPr>
          <a:xfrm>
            <a:off x="444600" y="3124080"/>
            <a:ext cx="6642000" cy="1130400"/>
            <a:chOff x="444600" y="3124080"/>
            <a:chExt cx="6642000" cy="1130400"/>
          </a:xfrm>
        </p:grpSpPr>
        <p:sp>
          <p:nvSpPr>
            <p:cNvPr id="64" name="Freeform 24"/>
            <p:cNvSpPr/>
            <p:nvPr/>
          </p:nvSpPr>
          <p:spPr>
            <a:xfrm>
              <a:off x="444600" y="3124080"/>
              <a:ext cx="1765080" cy="47016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609480" y="3200400"/>
              <a:ext cx="6477120" cy="105408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27"/>
          <p:cNvSpPr/>
          <p:nvPr/>
        </p:nvSpPr>
        <p:spPr>
          <a:xfrm>
            <a:off x="4495680" y="2743200"/>
            <a:ext cx="1752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6095880" y="2743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(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Polynomial by a Mo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2666880"/>
            <a:ext cx="2133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85800" y="1371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819520" y="26668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990720" y="2031840"/>
            <a:ext cx="2819160" cy="787680"/>
            <a:chOff x="990720" y="2031840"/>
            <a:chExt cx="2819160" cy="787680"/>
          </a:xfrm>
        </p:grpSpPr>
        <p:sp>
          <p:nvSpPr>
            <p:cNvPr id="73" name="Freeform 6"/>
            <p:cNvSpPr/>
            <p:nvPr/>
          </p:nvSpPr>
          <p:spPr>
            <a:xfrm>
              <a:off x="990720" y="2514600"/>
              <a:ext cx="457200" cy="30492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066680" y="2031840"/>
              <a:ext cx="2743200" cy="635040"/>
            </a:xfrm>
            <a:prstGeom prst="pie">
              <a:avLst/>
            </a:prstGeom>
            <a:noFill/>
            <a:ln w="19080">
              <a:solidFill>
                <a:srgbClr val="00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90720" y="3124080"/>
            <a:ext cx="4572000" cy="1067040"/>
            <a:chOff x="990720" y="3124080"/>
            <a:chExt cx="4572000" cy="1067040"/>
          </a:xfrm>
        </p:grpSpPr>
        <p:sp>
          <p:nvSpPr>
            <p:cNvPr id="76" name="Freeform 9"/>
            <p:cNvSpPr/>
            <p:nvPr/>
          </p:nvSpPr>
          <p:spPr>
            <a:xfrm>
              <a:off x="990720" y="3124080"/>
              <a:ext cx="1371600" cy="53352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1600200" y="3200400"/>
              <a:ext cx="3962520" cy="990720"/>
            </a:xfrm>
            <a:prstGeom prst="pie">
              <a:avLst/>
            </a:prstGeom>
            <a:noFill/>
            <a:ln w="19080">
              <a:solidFill>
                <a:srgbClr val="ff00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12"/>
          <p:cNvSpPr/>
          <p:nvPr/>
        </p:nvSpPr>
        <p:spPr>
          <a:xfrm>
            <a:off x="4343400" y="266688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895480" y="4572000"/>
            <a:ext cx="2362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+ 6x</a:t>
            </a:r>
            <a:r>
              <a:rPr b="0" lang="en-US" sz="32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40:50Z</dcterms:created>
  <dc:creator>Kenny Kong</dc:creator>
  <dc:description/>
  <dc:language>en-US</dc:language>
  <cp:lastModifiedBy>SCSCHOOLS</cp:lastModifiedBy>
  <dcterms:modified xsi:type="dcterms:W3CDTF">2011-02-23T21:14:59Z</dcterms:modified>
  <cp:revision>66</cp:revision>
  <dc:subject>Multiplying Polynomials</dc:subject>
  <dc:title>Multiplying Polynomials</dc:title>
</cp:coreProperties>
</file>